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F5A7-43DB-4D15-A98A-AF5B58A5C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BB6A-8A35-4946-B1AD-BDD2D2992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DFA5-1411-435F-B03A-BE7D9BE82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EEEA-DC58-46B8-B893-E77BBDFB6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B0B7-71B2-439B-8571-30352F64A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674C-AB6F-482B-B6F3-A76D2E3A3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B840-07C4-4F77-9C0A-9675CC8FA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2A61-2E6A-4860-8656-2F37A0ED3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120" y="6854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DC84-6CC6-4083-8725-EFFE683AA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EA01-0D99-417F-BFFC-580DE4DA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47C9-745B-4A09-875B-E738626A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F81D-D0AE-4FF5-8530-867864FE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000066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99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00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00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A2935-3292-429F-8FC8-AE19F1673DF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DA05E-13A5-477E-A2CC-E3D512295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nbflogo" descr=""/>
          <p:cNvPicPr/>
          <p:nvPr/>
        </p:nvPicPr>
        <p:blipFill>
          <a:blip r:embed="rId2"/>
          <a:stretch/>
        </p:blipFill>
        <p:spPr>
          <a:xfrm>
            <a:off x="7888320" y="685800"/>
            <a:ext cx="493560" cy="7192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772400" y="1371600"/>
            <a:ext cx="82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Regler for tillatte meldesystemer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Kurs for turneringsledere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Trondheim 3-5 mai 2002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tillatte meldesystemer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A627-E7D9-4C9C-A4B5-0CABDB1193D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5C0CCE-23B8-44F7-8DC7-20A27C2AE76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Definisjoner I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Gjennomsnittshånd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En gjennomsnittshånd er en hånd som har en honnør av hver rang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Svak hånd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En svak hånd mangler en konge eller mer på å være like sterk som en gjennomsnittshånd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Sterk hånd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En sterk hånd er minst en konge bedre enn en gjennomsnittshån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Lang farge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En farge er lang når den er på minst tre kort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Kort farge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En farge er kort når den er på høyst to kort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tillatte meldesystemer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96A6-E215-483E-AD2A-D83B0FC00E8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8C7303-0BBB-490C-A28A-F4D464C5340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Definisjoner I I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Konvensjonell melding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66"/>
                </a:solidFill>
                <a:latin typeface="Times New Roman"/>
              </a:rPr>
              <a:t>En melding er konvensjonell når den i følge makkeravtale</a:t>
            </a:r>
            <a:br>
              <a:rPr sz="1800"/>
            </a:br>
            <a:r>
              <a:rPr b="1" lang="nb-NO" sz="1800" spc="-1" strike="noStrike">
                <a:solidFill>
                  <a:srgbClr val="000066"/>
                </a:solidFill>
                <a:latin typeface="Times New Roman"/>
              </a:rPr>
              <a:t>kan formidle en annen betydning enn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960120" indent="-19188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990000"/>
                </a:solidFill>
                <a:latin typeface="Times New Roman"/>
              </a:rPr>
              <a:t>En vilje til å spille i angitt benevnelse (eller den sist angitte benevnelse.)</a:t>
            </a:r>
            <a:endParaRPr b="0" lang="en-US" sz="1400" spc="-1" strike="noStrike">
              <a:solidFill>
                <a:srgbClr val="990000"/>
              </a:solidFill>
              <a:latin typeface="Times New Roman"/>
            </a:endParaRPr>
          </a:p>
          <a:p>
            <a:pPr lvl="2" marL="960120" indent="-19188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990000"/>
                </a:solidFill>
                <a:latin typeface="Times New Roman"/>
              </a:rPr>
              <a:t>Honnørstyrke i fargen.</a:t>
            </a:r>
            <a:endParaRPr b="0" lang="en-US" sz="1400" spc="-1" strike="noStrike">
              <a:solidFill>
                <a:srgbClr val="990000"/>
              </a:solidFill>
              <a:latin typeface="Times New Roman"/>
            </a:endParaRPr>
          </a:p>
          <a:p>
            <a:pPr lvl="2" marL="960120" indent="-19188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990000"/>
                </a:solidFill>
                <a:latin typeface="Times New Roman"/>
              </a:rPr>
              <a:t>Lang farge</a:t>
            </a:r>
            <a:endParaRPr b="0" lang="en-US" sz="1400" spc="-1" strike="noStrike">
              <a:solidFill>
                <a:srgbClr val="99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Ekte melding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66"/>
                </a:solidFill>
                <a:latin typeface="Times New Roman"/>
              </a:rPr>
              <a:t>En melding er ekte når den ikke er konvensjonell </a:t>
            </a:r>
            <a:br>
              <a:rPr sz="1800"/>
            </a:br>
            <a:r>
              <a:rPr b="1" lang="nb-NO" sz="1800" spc="-1" strike="noStrike">
                <a:solidFill>
                  <a:srgbClr val="000066"/>
                </a:solidFill>
                <a:latin typeface="Times New Roman"/>
              </a:rPr>
              <a:t>(etter definisjonen ovenfor)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Lang lagkamp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66"/>
                </a:solidFill>
                <a:latin typeface="Times New Roman"/>
              </a:rPr>
              <a:t>En lagkamp er lang når den er på minst 17 spill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Kort lagkamp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66"/>
                </a:solidFill>
                <a:latin typeface="Times New Roman"/>
              </a:rPr>
              <a:t>En lagkamp er kort når den er på høyst 16 spill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Psykisk melding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66"/>
                </a:solidFill>
                <a:latin typeface="Times New Roman"/>
              </a:rPr>
              <a:t>En melding er psykisk når den er overlagt og grovt villedende i forhold til systemdeklarasjonen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Semibalansert hånd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n hånd er semibalansert når den inneholder to dobbeltoner eller en singelton uten dobbelton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tillatte meldesystemer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EFF2-CBA7-4ACF-A905-8AD47B7900F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8115BA-41ED-444E-9A9E-0E2C8FDC03B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HUM 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(Høyst uvanlig metode)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990000"/>
                </a:solidFill>
                <a:latin typeface="Times New Roman"/>
              </a:rPr>
              <a:t>Et system tilhører kategorien HUM når det oppfyller minst ett av fem kriterier: 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66"/>
                </a:solidFill>
                <a:latin typeface="Times New Roman"/>
              </a:rPr>
              <a:t>Pass i åpning viser eller kan inneholde en sterk hånd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66"/>
                </a:solidFill>
                <a:latin typeface="Times New Roman"/>
              </a:rPr>
              <a:t>Et åpningsbud på entrinnet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kan være svakere enn pass i samme posisjon 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kan vise eller inneholde en svak hånd 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kan alternativt vise kort eller lang farge. 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 </a:t>
            </a: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kan vise enten lengde i en farge eller i en eller flere andre farger.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tillatte meldesystemer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9233-8B17-4ACE-929A-6C1D699BE3E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E94F91-8224-4556-9722-BEAF4A5F9FA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7086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HUK  (Høyst uvanlig konvensjon ) I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990000"/>
                </a:solidFill>
                <a:latin typeface="Times New Roman"/>
              </a:rPr>
              <a:t>HUK er konvensjon knyttet til 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66"/>
                </a:solidFill>
                <a:latin typeface="Times New Roman"/>
              </a:rPr>
              <a:t>Åpningsbud fra og med 2 kløver til og med 3 spar, som kan vise eller inneholde hånd under gjennomsnitt og da ikke viser minst 4 kort i en bestemt farg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66"/>
                </a:solidFill>
                <a:latin typeface="Times New Roman"/>
              </a:rPr>
              <a:t>Unnta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A) Meldingen viser alltid minst 4 kort i en kjent farge når det ikke er sterkt. Dersom meldingen ikke viser en kjent 4 kortsfarge, må den vise en hånd med en konge eller mer over gjennomsnitt.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B) Åpning 2 i minor som viser minst 5 kort i en ukjent majorfarge, er ikke HUK</a:t>
            </a:r>
            <a:r>
              <a:rPr b="1" lang="nb-NO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b-NO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ersom alle ikke-sterke varianter av en slik melding har en felles kjent farge på minst fire kort, kan den altså i tillegg fritt ha hvilke som helst sterke betydninger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tillatte meldesystemer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E660-AC97-421F-8FC2-D75864926A2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A1DB39-A9D1-48DF-851D-BC4D3A140A5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000066"/>
                </a:solidFill>
                <a:latin typeface="Times New Roman"/>
              </a:rPr>
              <a:t>HUK  (Høyst uvanlig konvensjon ) II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66"/>
                </a:solidFill>
                <a:latin typeface="Times New Roman"/>
              </a:rPr>
              <a:t>Innmelding som etter åpning på entrinnet i ekte farge ikke viser minst 4 kort i en kjent farge;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990000"/>
                </a:solidFill>
                <a:latin typeface="Times New Roman"/>
              </a:rPr>
              <a:t>Unntak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lvl="3" marL="1407960" indent="-2008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b-NO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ersom alle ikke-sterke varianter av en slik melding har en felles kjent farge på minst fire kort, kan den altså i tillegg fritt ha hvilke som helst sterke betydninger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3" marL="1407960" indent="-2008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b-NO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kte grandmelding med eller uten hold </a:t>
            </a:r>
            <a:r>
              <a:rPr b="1" lang="nb-NO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66"/>
                </a:solidFill>
                <a:latin typeface="Times New Roman"/>
              </a:rPr>
              <a:t>Melding på hånd som kan være svak og da viser to farger der den ene kan være på mindre enn 4 kort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66"/>
                </a:solidFill>
                <a:latin typeface="Times New Roman"/>
              </a:rPr>
              <a:t>Psykiske meldinger som er beskyttet eller krevd av systemet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990000"/>
                </a:solidFill>
                <a:latin typeface="Times New Roman"/>
              </a:rPr>
              <a:t>Ingen forsvar mot sterke, konvensjonelle åpningsbud, HUK eller HUM er  HUK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tillatte meldesystemer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2903-FD08-4591-9E7D-E1238EB63B6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A74556-8848-4EAF-A40B-4D1FD984804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6858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Gruppering av meldesystemer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676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Naturlige systemer    </a:t>
            </a: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Grønt Systemkort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66"/>
                </a:solidFill>
                <a:latin typeface="Times New Roman"/>
              </a:rPr>
              <a:t>Et system er Naturlig når det på entrinnet bruker ekte åpningsmeldinger som viser minst tre kort i minor og fire i major, har ekte svar på en og totrinnet og har </a:t>
            </a:r>
            <a:br>
              <a:rPr sz="1800"/>
            </a:br>
            <a:r>
              <a:rPr b="0" lang="nb-NO" sz="1800" spc="-1" strike="noStrike">
                <a:solidFill>
                  <a:srgbClr val="000066"/>
                </a:solidFill>
                <a:latin typeface="Times New Roman"/>
              </a:rPr>
              <a:t>1grandåpning som viser en balansert eller semibalansert hånd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1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Konvensjoner som Toronto og Stenberg er tillatt. </a:t>
            </a:r>
            <a:endParaRPr b="0" lang="en-US" sz="1400" spc="-1" strike="noStrike">
              <a:solidFill>
                <a:srgbClr val="99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Minorsystemer       </a:t>
            </a: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Blått systemkort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66"/>
                </a:solidFill>
                <a:latin typeface="Times New Roman"/>
              </a:rPr>
              <a:t>Et system er  Minorsystem når det baserer seg på 1 kløver eller 1 ruter eller begge som konvensjonelle åpningsmeldinger og åpningen 1 i major og åpningen 1 Grand , er som for naturlige system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Kunstige systemer  </a:t>
            </a: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Rødt systemkort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66"/>
                </a:solidFill>
                <a:latin typeface="Times New Roman"/>
              </a:rPr>
              <a:t>Et system er Kunstig når det ikke faller i kategoriene Naturlig eller Minor og ikke bruker meldinger som er definert som HUM eller HUK. </a:t>
            </a:r>
            <a:r>
              <a:rPr b="0" i="1" lang="nb-NO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Kategorien omfatter bl.a Vienna , relésystemer, systemer med tillatte flertydige åpningsmeldinger og systemer med poengsvar ).</a:t>
            </a:r>
            <a:r>
              <a:rPr b="0" lang="nb-NO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HUM (Høyst Uvanlige Metoder) </a:t>
            </a: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Gult systemkort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t system er HUM når det i oppsettet har prinsipper som er beskrevet under HUM eller HUK unntatt konvensjoner som er beskrevet i tillatte brune vedlegg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tillatte meldesystemer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6F6D-B358-4F01-A76E-98D7AB0CB75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D0875B-74D4-4547-A687-3FE11518043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Tillatte meldesystemer I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Generelle regler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66"/>
                </a:solidFill>
                <a:latin typeface="Times New Roman"/>
              </a:rPr>
              <a:t>Arrangøren av en turnering bestemmer hvilke kategorier som er tillatt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66"/>
                </a:solidFill>
                <a:latin typeface="Times New Roman"/>
              </a:rPr>
              <a:t>HUM kan bare tillates i lange lagkamper.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990000"/>
                </a:solidFill>
                <a:latin typeface="Times New Roman"/>
              </a:rPr>
              <a:t>Lag med spillende par som bruker HUM systemer, er alltid bortelag.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66"/>
                </a:solidFill>
                <a:latin typeface="Times New Roman"/>
              </a:rPr>
              <a:t>Når HUM systemer tillates, skal systembeskrivelse sendes inn til arrangøren - fortrinnsvis på fil - for distribusjon til andre deltakere i turneringen.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66"/>
                </a:solidFill>
                <a:latin typeface="Times New Roman"/>
              </a:rPr>
              <a:t>Når HUK tillates, skal et forslag til forsvar beskrives sammen med konvensjonen i det brune vedlegget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Dersom det </a:t>
            </a:r>
            <a:r>
              <a:rPr b="1" i="1" lang="nb-NO" sz="2000" spc="-1" strike="noStrike">
                <a:solidFill>
                  <a:srgbClr val="990000"/>
                </a:solidFill>
                <a:latin typeface="Times New Roman"/>
              </a:rPr>
              <a:t>ikke</a:t>
            </a: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 i innbydelsen til turneringen er gjort særskilt vedtak, gjelder følgende: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66"/>
                </a:solidFill>
                <a:latin typeface="Times New Roman"/>
              </a:rPr>
              <a:t>Singelturneringer og andre "spesialturneringer"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990000"/>
                </a:solidFill>
                <a:latin typeface="Times New Roman"/>
              </a:rPr>
              <a:t>Arrangøren kan fastsette et system som er felles for alle spillerne.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tillatte meldesystemer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70AE-A1A6-43DD-AB5C-CCAF3E67550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5DCBEA-EA97-473E-BDDF-FCA47ADF387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Tillatte meldesystemer II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"Åpne" turneringer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I turneringer med generell innbydelse med klubbpoeng eller kretspoeng , SM damer 2. div, SM 4. og 5. divisjon gjelder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Grønne, blå og røde systemer er tillatt. HUM og HUK er forbudt.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Forbundspoeng-turneringer etc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I turneringer med forbundspoeng, kretsmesterskap med kvalifisering til NM, NM finaler under Bridgefestivalen,  SM 3. divisjon og cup - rundene i NM for klubblag gjelder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Grønne, blå og røde systemer er tillatt. 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Inntil 2 HUK er tillatt..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Toppturneringene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I finalen NM for klubblag, finalerundene NM for Lag,  SM 1 divisjon, SM 2 divisjon og SM damer 1 divisjon gjelder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Alle kategorier er tillatt.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tillatte meldesystemer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704E-9604-456C-99EA-51EDD777C95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42EF02-9FB0-4AB4-8C6F-C04419863AB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9T22:10:32Z</dcterms:created>
  <dc:creator>Per Nordland</dc:creator>
  <dc:description/>
  <dc:language>en-US</dc:language>
  <cp:lastModifiedBy>Per Nordland</cp:lastModifiedBy>
  <dcterms:modified xsi:type="dcterms:W3CDTF">2002-06-01T20:22:18Z</dcterms:modified>
  <cp:revision>9</cp:revision>
  <dc:subject/>
  <dc:title>Regler for tillatte meldesystemer</dc:title>
</cp:coreProperties>
</file>